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11.jpeg" ContentType="image/jpeg"/>
  <Override PartName="/ppt/media/image9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6.wmf" ContentType="image/x-wmf"/>
  <Override PartName="/ppt/media/image7.jpeg" ContentType="image/jpeg"/>
  <Override PartName="/ppt/media/image10.wmf" ContentType="image/x-wmf"/>
  <Override PartName="/ppt/media/image8.wmf" ContentType="image/x-wmf"/>
  <Override PartName="/ppt/media/image5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470E-DD12-4D12-81DE-D0305726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A88-2BBD-47DD-B913-CA8EC920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1C0-0FDC-4165-A367-7945782D4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A48-AA76-4826-9152-F90534FC2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DCF6B-8AA1-4FEE-A4EF-39B76C8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AD2F6-825C-483B-A1AC-3031A2E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A0E2C-2CC3-47BF-B9A7-BB413EDE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9B87C-9D89-42DE-8B37-43F46CEC3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B54B0-34F5-4DF9-AEEC-C4F8B116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C58732-D243-45C3-B9FE-5C734A2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98B4E-3E48-4E58-B66F-DEA3A8C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C42F-A085-4D7C-92FA-BC28FF0CF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585AF-0FA5-439A-A364-D9CA7819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4F63E-5571-4643-9E47-E146771D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BA013-EE21-4DDE-995A-80338647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DB70-0AC9-470B-999E-1B8C803A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45B6C-E57A-49BB-B8F2-BA194B7B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EB1-4557-4C6B-90A8-C295007C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80F2-A9BB-478F-9235-A9724E3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EE57-6287-44BA-B824-0F02BEA62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EB3-3D97-4082-A2E8-5DFFE3E8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AF6E-475A-4016-98F8-EA3CC5E2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368B-6FFC-4BB5-B855-6B47BADE8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B56-DC2A-4CB3-85A7-992A427D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C72DD-53E5-4F30-9CEB-E17465DAC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65E0-52BC-4BB7-9A08-4D533DEAAA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azelwood.k12.mo.us/~grichert/explore/dswmedia/density.htm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raves.k12.ky.us/PowerPoints/gchs/hsjchumbler.ppt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audio" Target="file:///tmp/home/.config/libreoffice/4/user/gallery/MSSN00652A0000%5B1%5D.wav" TargetMode="External"/><Relationship Id="rId5" Type="http://schemas.microsoft.com/office/2007/relationships/media" Target="file:///tmp/home/.config/libreoffice/4/user/gallery/MSSN00652A0000%5B1%5D.wav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audio" Target="file:///tmp/home/.config/libreoffice/4/user/gallery/MSj00748020000%5B1%5D.wav" TargetMode="External"/><Relationship Id="rId4" Type="http://schemas.microsoft.com/office/2007/relationships/media" Target="file:///tmp/home/.config/libreoffice/4/user/gallery/MSj00748020000%5B1%5D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file:///tmp/home/.config/libreoffice/4/user/gallery/MSj03884350000%5B1%5D.wav" TargetMode="External"/><Relationship Id="rId4" Type="http://schemas.microsoft.com/office/2007/relationships/media" Target="file:///tmp/home/.config/libreoffice/4/user/gallery/MSj03884350000%5B1%5D.wav" TargetMode="Externa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rce in Fluid System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lum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 Rectangular Ob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Volume = length X width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, ft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Mathla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Wa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of water   =   1 g / 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ater Weight Density = 62.4 lb  /  ft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Hydrometer – an instrument that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measures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pecific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density of a substance / density of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ahom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uni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Ex:  Density of lead is 11.34 g/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Specific gravity of lead is 11.3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e:  Specific Grav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4" marL="195444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English       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cific grav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sp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n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of a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s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b/ ft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 g/c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Subst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ensity of water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D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w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66ffff"/>
                </a:solidFill>
                <a:latin typeface="Tahoma"/>
              </a:rPr>
              <a:t>    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lb/ ft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   g/cm</a:t>
            </a:r>
            <a:r>
              <a:rPr b="0" lang="en-US" sz="32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Tale of Archimed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oblem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d the goldsmith steal some of the gold that was to be used in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rown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567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00400" y="3809880"/>
            <a:ext cx="396252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The King was sure some of his gold was stole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Archimedes did not discover the answer Archimedes would pay with his lif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93968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uoyant For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n upward force on an object that’s equal to the weight of the fluid displaced determining whether an object sinks or floa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4068720"/>
            <a:ext cx="5715000" cy="2789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581280" y="3657600"/>
            <a:ext cx="234648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 and Buoy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If you are putting solids in water (1g/ml), if the density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 g/ml or less flo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ahoma"/>
              </a:rPr>
              <a:t>1 g/ml or more sin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pply this pattern to other 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Density/buoyancy Activ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ecific Gravity Mathla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4 states of matter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Flip chart activ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l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q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as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sure =  Force  / Ar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743200" y="3048120"/>
            <a:ext cx="4713120" cy="336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2362320" y="4038480"/>
            <a:ext cx="2590560" cy="2219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7"/>
          <a:stretch/>
        </p:blipFill>
        <p:spPr>
          <a:xfrm>
            <a:off x="6095880" y="228600"/>
            <a:ext cx="3048120" cy="21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90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ARE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ahoma"/>
              </a:rPr>
              <a:t>Area =  length  X  wid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, ft</a:t>
            </a:r>
            <a:r>
              <a:rPr b="0" lang="en-US" sz="32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: 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English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          P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si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N/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Force               F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lb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rea                A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</a:t>
            </a:r>
            <a:r>
              <a:rPr b="0" lang="en-US" sz="32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sure Exampl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woman has stiletto heels on she weighs 120 lb and the heel is 0.5 “ X  0.5”.  How much pressure would the heal exert if all the woman’s weight is on one hee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Area=  0.5”  X 0.5”  =  0.25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 = F  /  A   = 120 lb / 0.25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=  480 psi  ( psi= lb/ in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More than enough to puncture skin or the aluminum of an airp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ahoma"/>
              </a:rPr>
              <a:t>Pascal’s Princi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A change in pressure at any point in a confined fluid is transmitted undiminished throughout the fluid  ex:  barome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3276720" cy="2819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685800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897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50"/>
                </p:tgtEl>
              </p:cMediaNode>
            </p:audio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tal Pressure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=  gage pressure  +  atmospheric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tmospheric pressure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many un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30 inches of mercury   OR  1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able:  Total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English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Engl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tal pressur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P to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si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Gage pressure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P g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psi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 inch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Atmospheric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P atm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14.7 psi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30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tal Pressure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ar tire needs a gage pressure of 30psi.  What would be the total pressure on the t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otal pressure =  gage pressure  +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mospheric pres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tm press= 1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Tot press= 30 psi  + 14.7 psi =  44.7 p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 H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= water weight density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his can be used for any substance as long as you know the weight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Tahoma"/>
              </a:rPr>
              <a:t>Fluid Heigh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ariabl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glis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S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 P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lb/ft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  kg/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Water wgt 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62.4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lb/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1000 kg/m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Fluid heigh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h            ft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  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can be a liquid or a g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essure in Tank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Tahoma"/>
              </a:rPr>
              <a:t>The tank with the greatest fluid height has the greatest pressure (figure 1.26 pg 4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If two tanks have the same height but different diameter the pressure at the bottom is the sa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figure 1.28 pg 4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Even if the tank funnels down to a small bottom surface, the pressure remains the same for t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66ffff"/>
                </a:solidFill>
                <a:latin typeface="Tahoma"/>
              </a:rPr>
              <a:t>same dept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Tahoma"/>
              </a:rPr>
              <a:t>of flu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Pressure in Tanks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676520" y="2438280"/>
            <a:ext cx="1268280" cy="3276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581280" y="2362320"/>
            <a:ext cx="1268640" cy="3429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5943600" y="1676520"/>
            <a:ext cx="179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luid Height Examp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ater tower is 300 ft high.  What should the water pressure gage read at the bottom of the tow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Pressure = water weight density X heigh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Pressure =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62.4</a:t>
            </a:r>
            <a:r>
              <a:rPr b="0" lang="en-US" sz="32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lb/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3   </a:t>
            </a: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X    300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Tahoma"/>
              </a:rPr>
              <a:t>Pressure = 18,720  lb / ft</a:t>
            </a:r>
            <a:r>
              <a:rPr b="0" lang="en-US" sz="2400" spc="-1" strike="noStrike" baseline="30000">
                <a:solidFill>
                  <a:srgbClr val="ff00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raulic Syste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system that uses a liquid as the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5105520" cy="3311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705720" y="304920"/>
            <a:ext cx="22096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neumati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fluid system that uses a gas as the flu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981080" y="3809880"/>
            <a:ext cx="5257800" cy="2743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9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6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ns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e page 30 for the Density Table 1.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nsity  =  mass  / 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 :  2 silver cub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ff00"/>
                </a:solidFill>
                <a:latin typeface="Tahoma"/>
              </a:rPr>
              <a:t>Rearranging Equation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Density  =  mass  /  volum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m / V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 = D V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V = m / 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441972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438280" y="2057400"/>
            <a:ext cx="18288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4267080" y="2057400"/>
            <a:ext cx="182880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352680"/>
            <a:ext cx="1981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33526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able:  Density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Variable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English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Densit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lb-mas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d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ass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m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lb-mass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Tahoma"/>
              </a:rPr>
              <a:t>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Volume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yd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66ffff"/>
                </a:solidFill>
                <a:latin typeface="Tahoma"/>
              </a:rPr>
              <a:t>m</a:t>
            </a:r>
            <a:r>
              <a:rPr b="0" lang="en-US" sz="2400" spc="-1" strike="noStrike" baseline="30000">
                <a:solidFill>
                  <a:srgbClr val="66ffff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nsity Ex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ensity of an object that has a mass of 30 kg and a volume of 60 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ensity  =  mass  /  volu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30 kg / 60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D = 0.5 kg/ m</a:t>
            </a:r>
            <a:r>
              <a:rPr b="0" lang="en-US" sz="3200" spc="-1" strike="noStrike" baseline="30000">
                <a:solidFill>
                  <a:srgbClr val="00ff00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14:51:20Z</dcterms:created>
  <dc:creator>ksmith</dc:creator>
  <dc:description/>
  <dc:language>en-US</dc:language>
  <cp:lastModifiedBy>ksmith</cp:lastModifiedBy>
  <dcterms:modified xsi:type="dcterms:W3CDTF">2009-08-27T02:06:11Z</dcterms:modified>
  <cp:revision>32</cp:revision>
  <dc:subject/>
  <dc:title>Ch 1.2 Fluid Systems </dc:title>
</cp:coreProperties>
</file>